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5E91-D489-4707-9DD1-738BADC30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77EE-4C82-4FA2-9C0A-88CBE9E13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7054-9AC2-4581-BD84-95A062C1F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0B87-966B-46A5-AA41-CDCD52512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0DFB-4997-4F26-B09B-54F07647E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A6A5-B732-430C-BC86-CF23192DB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09F4-1157-4E44-8E29-24E637F43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554B-B739-4A50-8405-044DE3C3E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8C75-6340-4579-81B6-971C12FFA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70FD-8E99-4DA2-95AA-79EE6CB98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F0AC-9771-4CB8-81BD-E02F667C6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0178-F25C-477B-83A0-63956626A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8946-6F83-4BD8-84F7-6E6BE598796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ducation.intel.com/au/ProjectDesign" TargetMode="External"/><Relationship Id="rId2" Type="http://schemas.openxmlformats.org/officeDocument/2006/relationships/hyperlink" Target="http://education.intel.com/au/ProjectDesign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resources" TargetMode="External"/><Relationship Id="rId2" Type="http://schemas.openxmlformats.org/officeDocument/2006/relationships/hyperlink" Target="http://www.tmd.com.au/education/thinking/resources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-Framing Questions to Support Thinking Skills</a:t>
            </a: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783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ontent Questions -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supporting, fact-based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categorized as closed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lp strengthen and develop students’ understanding of larger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route did the early explorer’s tak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were the explorers looking f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View additional examples of Curriculum Framing Questions in Appendix B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94400" y="1371600"/>
            <a:ext cx="44496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297B-14A9-4956-9F7E-223A348730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Building Understanding of Curriculum Framing Questions -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5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r trainer will take you through a collaborative activity which will explore how essential, unit and content questions can be defined and how they differ. 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 will find this a helpful activity to build your Participant Teachers’ understanding of Curriculum Framing Questions, and how to use them to plan a unit of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roup discussion and collaboration is a wonderful way to increase understanding of new and complex concep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B7DB-3EFA-4299-98A1-6CA5A6351B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br>
              <a:rPr sz="20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Practicing with Questions -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6-3.1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95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rmine Essential Ques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Essential, Unit, and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tent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“big idea” concep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Essential Questions using big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ork with a partner to brainstorm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ig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raft Essential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75200" y="1971720"/>
            <a:ext cx="3787920" cy="40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4E2D-C1DA-42BC-BB8F-3CE0CFCD24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br>
              <a:rPr sz="20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Writing Essential and Unit Questions -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3.11–3.1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vide into small group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questions that will motivate students and target higher order thin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member to write questions in student-appropriate languag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13B8-0AD0-4819-BB9A-E753735FCF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upporting Higher Order Thinking Skills with Curriculum Framing Questions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3 – 3.1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Looking Deeper into a Uni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ork with a partn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rowing a Busines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the Curriculum Framing Questions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Focusing on Curriculum Framing Questions Used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 in Units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several of the unit plans and project ideas at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education.Intel.com/au/ProjectDesig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cus on how the Curriculum Framing Questions are infused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rite any ideas for Curriculum Framing Questions you might be able to use in your classroo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5C64-6EC6-4452-A555-40B6E0F924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Writing Your Own Curriculum Framing Questions -</a:t>
            </a:r>
            <a:br>
              <a:rPr sz="2400"/>
            </a:br>
            <a:r>
              <a:rPr b="0" lang="en-US" sz="12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3.15 – 3.18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518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Creating a First Draft of Questions -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ips for writ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nk about why you are studying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is the long-term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cus on brainstorm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y away from definitional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itially write the questions in adult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anguage then rewrite i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udent-appropriate languag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62480" y="1371600"/>
            <a:ext cx="38815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3A62-36C8-41EE-A2A3-B383510E01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Writing Your Own Curriculum Framing Question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240" y="1600200"/>
            <a:ext cx="838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Creating a First Draft of Questions -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6 – 3.1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first draft of your 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big (Essential) and work to small (Conten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small (Content) and work to big (Essential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Targeting Thinking Skills When Revising Questions -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 thinking skills when revis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91D7-080D-46FF-8861-18F300106D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6882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Curriculum Framing Question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-</a:t>
            </a:r>
            <a:br>
              <a:rPr sz="1600"/>
            </a:b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19</a:t>
            </a:r>
            <a:br>
              <a:rPr sz="16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823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small grou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e your Curriculum Framing Ques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est ideas for improv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e feedback and revision ide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FCE0-AF73-41ED-B7F3-46BE053F66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upporting Deeper Thinking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2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Updating Your M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ith your partner, return to your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map at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 your work with 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additional factors might you want to add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the relationships between the fact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ve your map into your portfol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Reflecting on Curriculum Framing Questions to Support Thinking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thoughts about using Curriculum Framing Questions in your classr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ECA8-4BAF-455C-BCC0-4F757DC7F9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cusing on Essential Questions -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20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/education/thinking/resources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From the Curriculum Framing Questions folder download and review the additional resources including </a:t>
            </a:r>
            <a:r>
              <a:rPr b="0" i="1" lang="en-AU" sz="1600" spc="-1" strike="noStrike">
                <a:solidFill>
                  <a:srgbClr val="0860a8"/>
                </a:solidFill>
                <a:latin typeface="Verdana"/>
              </a:rPr>
              <a:t>The Blue Blood Is Bad, Right? 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and</a:t>
            </a:r>
            <a:r>
              <a:rPr b="0" i="1" lang="en-AU" sz="1600" spc="-1" strike="noStrike">
                <a:solidFill>
                  <a:srgbClr val="0860a8"/>
                </a:solidFill>
                <a:latin typeface="Verdana"/>
              </a:rPr>
              <a:t> the Curriculum Framing Questions Rubric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You may wish to revise your Curriculum Framing Questions before sharing them in the next modu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BAFE-E7F6-47A9-8C44-E6EC196C14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1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argeting Thinking in the Classroo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argeting higher order thi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ing your own taxonom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2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esigning Project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steps for project plan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standards/syllabus outcomes that target higher order thinking skil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ways to use a project-based approach to lear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influences that affect thinking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CDB3-F48D-4BCC-9666-7E7843B5F9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400"/>
            </a:br>
            <a:br>
              <a:rPr sz="1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3 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3.2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60360" y="1743120"/>
          <a:ext cx="8332920" cy="3376440"/>
        </p:xfrm>
        <a:graphic>
          <a:graphicData uri="http://schemas.openxmlformats.org/drawingml/2006/table">
            <a:tbl>
              <a:tblPr/>
              <a:tblGrid>
                <a:gridCol w="8332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3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30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losed questions ask students to understand facts and procedur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urriculum Framing Questions consist of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ssential Question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—big overarching id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it Question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—open-ended questions that support the exploration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one part of the Essential Ques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 Question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—supporting, fact-focused questions that are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required to understand and answer the Essential and Unit Ques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FA99-7A0A-4262-AE5F-C2C152BEFA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Next Module 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57320"/>
            <a:ext cx="823752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4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Student-Centered Assessm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assessment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 evaluat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sessment ide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aft an Assessment Pla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2CFE-3419-41E2-B680-F135C76A6B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AA69-87BC-4603-9B48-FF9E89EF56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3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reating Curriculum Framing Questions to Support 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inking Skil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derstand different types of questions used in the classr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nd revise Curriculum Framing Ques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dentify influences affecting thinking from the perspective of a stud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8984-B323-48F2-82A7-57952A327F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923760"/>
          <a:ext cx="8237520" cy="4660920"/>
        </p:xfrm>
        <a:graphic>
          <a:graphicData uri="http://schemas.openxmlformats.org/drawingml/2006/table">
            <a:tbl>
              <a:tblPr/>
              <a:tblGrid>
                <a:gridCol w="1982880"/>
                <a:gridCol w="6254640"/>
              </a:tblGrid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0D09-ECE7-4EF2-8BA0-D28F35C0BD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reating Curriculum Framing Questions to Support Thinking Skill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14800" y="1676160"/>
            <a:ext cx="4578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nk questions according to their potential for generating deeper thinking in the classroo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the different types of questions used in the classroo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the use of 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actice revising and creating 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set of Curriculum Framing Questions for your own classroo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positive and negative influences that can affect thinking—from the perspective of a stu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2920" y="1542960"/>
            <a:ext cx="3948120" cy="39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8884-5649-40D0-B513-F93581F3A6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Asking Questions in the Classroom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1 – 3.03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9280" y="167652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Understanding Open and Closed Ques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osed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est factual knowledg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tain limited range of correct respon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uild upon factual knowledg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mote higher order thi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Group Reflection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hat is the right balance between open and closed question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How can you ensure students are really thinking more deeply whe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ing open ended question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6F0D-7F49-4BAB-BBDA-06ECAB03CA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375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Reflecting on Questions Used in Your Classroom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-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 on the questions used in a typical day in your classroom, as you consider your experience with and attitude to questioning technique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2ADE-02BC-4702-9FD5-A4648DD8CF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veloping Curriculum Framing Questions </a:t>
            </a:r>
            <a:br>
              <a:rPr sz="2400"/>
            </a:b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4 – 3.1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41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Defining Curriculum Framing Questions -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Ques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overarching, foundational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“big idea”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n help focus several uni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n be used over the  course of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yea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does it take to change the world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9760" y="1500120"/>
            <a:ext cx="4043520" cy="408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B5B2-F189-4F8C-8084-461DA75356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Creating Curriculum Framing Questions to Support Thinking Skills</a:t>
            </a:r>
            <a:br>
              <a:rPr sz="10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5869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it Questions -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3.0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unit-specific, open-ended question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lp build understanding for th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y leave one’s home to make a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ew life in a strange land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94400" y="990720"/>
            <a:ext cx="44496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B647-9D4F-4ABD-82DD-E3B9A8A917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5:09Z</dcterms:modified>
  <cp:revision>106</cp:revision>
  <dc:subject/>
  <dc:title>Presentation Title Goes Here</dc:title>
</cp:coreProperties>
</file>